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74A-996A-4BAB-816C-DB4BE092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D2D-8D44-4FD3-B51F-8BBB3BE9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D79-2E85-4B09-AF9A-041F248E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3F7-2729-4374-933B-C92BAB88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86FF-4DF0-4B12-A370-82ACB43E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985E-D98A-49F1-9AA8-9E5E3D6E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9396-9A65-4C6E-A2AB-D3FEB780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ACC3-701C-4247-BF9C-5C7C41CF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F1E7-8C68-4AC3-9016-408A48FC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12A2-DE10-4752-B15C-4BD9A1A0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B6CE-A166-4C59-A654-3AC14734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B3B-9DE6-478F-A70C-1CAAA005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0366-3428-4476-87C8-79A98436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D9C2-F214-4FAE-B9D8-0C1F78D9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0C2A-C981-423C-840A-4868D091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D6E7-D78A-40DD-B7F2-572C770B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38FC-697A-43F6-A92F-029B671F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F95-C915-4D0C-94A6-CD85CB68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3AF-936E-416E-92C9-3BBEEF53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8B9-40EC-4168-BE78-F1217569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AA3-3625-464F-A02E-F32D970A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8CF-1631-4E98-B798-0FE63F6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BAB-50F2-492C-A1EB-7530DAB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74F-0B9F-4F2B-82BB-0351ECA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F531-397C-4246-B224-59CEA9EA13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3C20-59C2-48A1-BC4A-ECC84D4228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НАСС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H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zard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nalysis and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ritical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ontrol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oi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Анализ Рисков и Критическ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Контрольные Точ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ермины и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Опасность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– потенциальный источник вреда здоровью челове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Опасный фактор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– вид опасности с конкретными признак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Риск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– сочетание вероятности реализации опасного фактора  и степени тяжести его последств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ермины и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Verdana"/>
              </a:rPr>
              <a:t>Допустимый риск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– риск, приемлемый для потребител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Verdana"/>
              </a:rPr>
              <a:t>Недопустимый риск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– риск, превышающий уровень допустимого рис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Verdana"/>
              </a:rPr>
              <a:t>Безопасность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– отсутствие недопустимого рис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ермины и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Анализ риска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– процедура использования доступной информации для выявления опасных факторов и оценки рис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Управление риском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– процедура выработки и реализации предупреждающих и корректирующих действ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ермины и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66"/>
                </a:solidFill>
                <a:uFillTx/>
                <a:latin typeface="Verdana"/>
              </a:rPr>
              <a:t>Предупреждающее действие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– действие, предпринятое для устранения причины потенциального несоответствия или другой потенциальной нежелательной ситуации и направленное на устранение риска или снижение его до допустимого уровн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66"/>
                </a:solidFill>
                <a:uFillTx/>
                <a:latin typeface="Verdana"/>
              </a:rPr>
              <a:t>Корректирующее действие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– действие, предпринятое для устранения причины выявленного несоответствия или другой нежелательной ситуации и направленное на устранение риска или снижения его до допустимого уровн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ермины и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Критическая контрольная точка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– место проведения контроля для идентификации опасного фактора и (или) управления риск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Предельное значение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– критерий, разделяющий допустимые и недопустимые значения контролируемой величин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ермины и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Мониторинг</a:t>
            </a: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– проведение запланированных наблюдений или измерений параметров в критических контрольных точках с целью своевременно обнаружения их выхода за предельные значения и получения необходимой информации для выработки предупреждающих и корректирующих действ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ринципы НАСС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Идентификация опасных факто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Определение Критических Контрольных Точек (ККТ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Установление критических преде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Система мониторин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Провер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Документирова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Шаги внедрения НАСС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создание рабочей группы по разработке и ведению НАССР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сбор данных о продукции и описание продукта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определение ожидаемой области применения продукции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построение производственной блок-схемы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проверка производственной блок-схемы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составление перечня возможных опасных факторов и предупреждающих действий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определение критических контрольных точек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установление критических пределов и допусков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создание системы мониторинга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разработка плана корректирующих действий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внедрение регистрации данных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разработка процедур проверки и анализа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оздание рабочей груп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специалист по обеспечению качества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, разбирающейся в микробиологических и/или химических, а также сопутствующих рисках для определенной группы проду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специалист по производству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, тесно связанный с процессом производства, подвергаемым исследованию, необходимо, чтобы он был способен разъяснить, что именно происходит на всех этапах производст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инженер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, имеющий опыт по вопросам организации и конструирования оборудования с учетом соблюдения гигиены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араметры отбо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должностные полномоч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опыт работы на данном предприяти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знания и опыт в области производства данной продукции и связанных с ним опасных факторов, которые должны стать предметом анализа при разработке НАССР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стория системы </a:t>
            </a: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HACC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создана примерно в 1960 году для корпорации НАС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разработка системы безопасности пищи для астронавт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абсолютное управление качеством, ноль отклон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контракт был отдан корпорации «</a:t>
            </a: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Pillsbury</a:t>
            </a: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бор данных о продукции и описание проду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наименование и обозначение нормативных документов и технических услов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наименование и обозначение основного сырья, пищевых добавок и упаковки, их происхождение, а также обозначение нормативных документов и технических условий, по которым они выпускаютс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условия хранения и сроки год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петли возврата, доработки и переработки продукции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бор данных о продукции и описание проду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соста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структур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обработка (прошел ли продукт термическую обработку и в какой степен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упаковк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инструкция по использовани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остроение производственной блок-схем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сырье/ингредиенты и используемая упаковка (микробиологические, химические, физические данные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планы расположение оборудова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последовательность этапов технологического процесс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временные/температурные данные всего сырья, промежуточного и конечного продукта, включая допуски на задержк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проектные характеристика оборудования (включая наличие пустых пространств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процедуры по мойке и дезинфек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установленные маршруты персонал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пути потенциального перекрестного загрязн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условия хранения и транспортировк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контролируемые параметры технологического процесса, периодичность и объем контрол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инструкции о процедурах уборки и дезинфекции, а также гигиене персонала, согласованные с СЭС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техническое обслуживание и мойка оборудования и инвентар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пункты санитарной обработки, расположение туалетов, умывальников, хозяйственно-бытовых зо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система вентиляции и п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оставление перечня опасных факторов и предупреждающих действи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микробиологически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химические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физические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сальмонелла в готовом продукт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остатки моющих сред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металлические включения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пределение КК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Существует ли опасность на данном этапе производств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Проводятся ли предупреждающие действия в отношении установленных опасных факторов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Является ли этот этап решающим для устранения опасного фактора или его снижения до допустимого уровн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Может ли опасный фактор проявиться или превысить допустимый уровень на данном этап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Может ли следующий этап устранить выявленный опасный фактор или свести возможность его появления до допустимого уровн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Установление критических пределов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температур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врем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влажность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уровень pH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w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химические анализы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визуальные оценки продукт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практика управления/оперир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Установление системы мониторинг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мониторинг необходим для управления безопасности продуктов питания, он облегчает отслеживание операций. Если мониторинг указывает на тенденцию к утере контроля, то должны быть предприняты меры к возврату процесса под контроль до того, как произойдет отклонение от критических предел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мониторинг используется для того, чтобы определить, когда утерян контроль и происходит отклонение в критической контрольной точке, т.е. превышен или не достигнут критический предел. Когда происходит отклонение, должны быть предприняты соответствующие корректирующие действ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он обеспечивает письменную документацию для использования ее в проверке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Установление системы мониторин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Кто проводит контроль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Как часто проводится мониторинг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Как осуществляется мониторинг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азработка плана корректирующих действи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проверка средств измерен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наладка оборудован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изоляция несоответствующей продукц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переработка несоответствующей продукц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мероприятия по обеспечению того, чтобы каждая критическая точка не выходила за критический предел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получение разрешения на проведение корректирующих действ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процедуры обращения с дефектной продукци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Внедрение регистрации данных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66"/>
                </a:solidFill>
                <a:uFillTx/>
                <a:latin typeface="Verdana"/>
              </a:rPr>
              <a:t>Документац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политика в области безопасности выпускаемой проду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приказ о создании и составе группы НАСС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информация о продукт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информация о производств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отчеты группы НАССР с обоснованием выбора потенциально опасных факторов, результатами анализа рисков и выбора критических контрольных точек и определения критических предело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рабочие листы НАСС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процедуры мониторинг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процедуры проведения корректирующих действи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программа внутренней проверки системы НАСС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перечень регистрационно-учетной документа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едостатки традиционных систем контрол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для полной уверенности в безопасности пищи требуется контролировать 100% 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для получения репрезентативных результатов нужны значительные объемы проб продуктов для анализ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процедуры по оценке текущей безопасности пищевых продуктов довольно длительны и дорогостоящ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безопасность пищевых продуктов гарантируется только в отношении проверенных видов опасности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Внедрение регистрации данных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Запис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происхождение, природа и качество сырь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полные записи по всему процессу, включая хранение и распределе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записи по чистке и дезинфе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все решения, принятые по безопасности продук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записи по отклонениям от нормы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записи по корректирующим действия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записи по сделанным изменения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данные проверок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Внедрение регистрации данны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Требование к документ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иметь шифр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обеспечивать постоянный доступ к данны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позволять легко и своевременно вносить изменен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иметь удобную для проверки форму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храниться в зависимости от срока службы продукц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быть подписаны и датирован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роцедуры проверки и анали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Цели провер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соответствует ли система НАССР разработанной программе НАСС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соответствует ли разработанная программа НАССР производственному процессу и является ли она эффективно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правильно ли применяются специфицированные процедуры мониторинга и корректирующие действ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роцедуры проверки и анали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Сигналы провер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изменение в сырье, формировании продукт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изменения в системе переработ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изменения в расположении производства и в окружающей сред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изменения в перерабатывающем оборудован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изменения в программе очистки и дезинфе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изменения в системе упаковки, хранения и распредел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изменения в уровнях штата и/или ответственно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ожидаемые изменения в использовании продукта потребителе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роцедуры проверки и анали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Проверка включа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экспертизу программы НАССР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экспертизу документ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анализ отклонений и проведенных по ним корректирующих действ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микробиологический анализ промежуточных и конечных проду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анализ продукции, находящейся в торговле, в случае ухудшения ее качества и возникновения других непредвиденных проблем, касающихся ее безопасно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анализ использования продукции потребителя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Трудности при внедрен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отсутствие должного внимания и анализа результатов мониторинга системы со стороны высшего руководства предприятия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отсутствие постоянного сопровождения, контроля и улучшения системы НАССР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размытость применения принципов НАССР, использование системы не по основному назначению – обеспечению безопасности пищевых продуктов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недостаточное фиксирование системы НАССР, отсутствие необходимого ресурсного обеспечения, ограниченность полномочий команды НАССР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обслуживание системы НАССР одним человеком вместо многопрофильной команды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отсутствие квалифицированного и подготовленного персонала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Verdana"/>
              </a:rPr>
              <a:t>отсутствие постоянного обучения работников предприятия различных уровней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омпоненты НАСС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идентификация и оценка всех опасностей, связанных с конечным продуктом (от выращивания, сбора урожая, переработки и т.д. до потребителя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определение шагов и стадий внутри процесса производства пищевых продуктов, при которых эти опасности могут быть проконтролированы, уменьшены или устранены (критические контрольные точки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выполнение процедуры контроля в этих точ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дачи Комиссии Кодекса Алиментариу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развитие международных пищевых стандар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применение научного подхода и анализа риск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развитие связей Комиссии с другими регулирующими организациям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обеспечение возможности быстрого и эффективного реагирования на возникающие проблемы и новые разработки в пищевом сектор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максимально возможное распространение и внедрение стандартов Кодекс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риентация на потребител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требование безопасности (не представляет угрозы здоровью человек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указание стандарта качест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указание массы, соста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наличие этикетки, соответствующей требованиям стандарт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указание стандарта как косвенного подтверждения качест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пищевая ценност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контроль технологического процес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загрязнение окружающей сре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облучение и био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32000" y="2449440"/>
            <a:ext cx="2827440" cy="2751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Times New Roman"/>
              </a:rPr>
              <a:t>Codex Alimentari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2760" y="938160"/>
            <a:ext cx="2198880" cy="76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99"/>
                </a:solidFill>
                <a:latin typeface="Times New Roman"/>
              </a:rPr>
              <a:t>WHO/F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99"/>
                </a:solidFill>
                <a:latin typeface="Times New Roman"/>
              </a:rPr>
              <a:t>рекоменд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2305080"/>
            <a:ext cx="784440" cy="45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b76"/>
                </a:solidFill>
                <a:latin typeface="Times New Roman"/>
              </a:rPr>
              <a:t>G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3602160"/>
            <a:ext cx="785880" cy="45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b76"/>
                </a:solidFill>
                <a:latin typeface="Times New Roman"/>
              </a:rPr>
              <a:t>GL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4826160"/>
            <a:ext cx="784080" cy="45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b76"/>
                </a:solidFill>
                <a:latin typeface="Times New Roman"/>
              </a:rPr>
              <a:t>G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52760" y="5834160"/>
            <a:ext cx="2198880" cy="7635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WTO/S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imes New Roman"/>
              </a:rPr>
              <a:t>требован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349360"/>
            <a:ext cx="1098360" cy="61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b76"/>
                </a:solidFill>
                <a:latin typeface="Times New Roman"/>
              </a:rPr>
              <a:t>HAC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(199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720" y="4727520"/>
            <a:ext cx="143964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b76"/>
                </a:solidFill>
                <a:latin typeface="Times New Roman"/>
              </a:rPr>
              <a:t>ISO 9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68" idx="2"/>
            <a:endCxn id="167" idx="0"/>
          </p:cNvCxnSpPr>
          <p:nvPr/>
        </p:nvCxnSpPr>
        <p:spPr>
          <a:xfrm flipH="1">
            <a:off x="4546080" y="1703160"/>
            <a:ext cx="72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7" idx="4"/>
            <a:endCxn id="172" idx="0"/>
          </p:cNvCxnSpPr>
          <p:nvPr/>
        </p:nvCxnSpPr>
        <p:spPr>
          <a:xfrm>
            <a:off x="4546440" y="5219280"/>
            <a:ext cx="720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7" idx="1"/>
            <a:endCxn id="169" idx="3"/>
          </p:cNvCxnSpPr>
          <p:nvPr/>
        </p:nvCxnSpPr>
        <p:spPr>
          <a:xfrm flipH="1" flipV="1">
            <a:off x="2331360" y="2534400"/>
            <a:ext cx="121500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7" idx="2"/>
            <a:endCxn id="170" idx="3"/>
          </p:cNvCxnSpPr>
          <p:nvPr/>
        </p:nvCxnSpPr>
        <p:spPr>
          <a:xfrm flipH="1">
            <a:off x="1972800" y="3825720"/>
            <a:ext cx="11404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7" idx="3"/>
            <a:endCxn id="171" idx="3"/>
          </p:cNvCxnSpPr>
          <p:nvPr/>
        </p:nvCxnSpPr>
        <p:spPr>
          <a:xfrm flipH="1">
            <a:off x="2260080" y="4816440"/>
            <a:ext cx="128664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7" idx="7"/>
            <a:endCxn id="173" idx="1"/>
          </p:cNvCxnSpPr>
          <p:nvPr/>
        </p:nvCxnSpPr>
        <p:spPr>
          <a:xfrm flipV="1">
            <a:off x="5544720" y="2658240"/>
            <a:ext cx="118836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67" idx="5"/>
            <a:endCxn id="174" idx="1"/>
          </p:cNvCxnSpPr>
          <p:nvPr/>
        </p:nvCxnSpPr>
        <p:spPr>
          <a:xfrm>
            <a:off x="5544720" y="4816080"/>
            <a:ext cx="1188360" cy="1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еимущества НАСС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НАССР является систематическим подходом, охватывающим все аспекты безопасности пищевых продуктов, начиная с выращивания и сбора сырья до покупки и использования конечного продукт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Использование НАССР продвинет компанию от традиционного тестирования конечного продукта к методу обеспечения качеств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НАССР обеспечивает экономичный контроль рисков, связанных с пищевым производством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Правильное использование НАССР должно выявить все скрытые текущие риски, включая те, которые могут быть реально предсказаны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Использование НАССР направляет технические ресурсы в критические части процесс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Использование профилактических методов ведет к уменьшению потерь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НАССР является дополнением к другим системам управления качеством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Такие международные организации как Совместный Кодекс Комиссии по Пищевым Продуктам FAO/WHO одобрил НАССР как наиболее эффективное средство контроля над заболеваниями, вызываемыми пищевыми продукта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ермины и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План НАССР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– это документ, который определяет процедуры, которым нужно следовать для обеспечения контроля безопасности (для здоровья потребителя) определенного продукта и/или технологического процес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11:42Z</dcterms:created>
  <dc:creator>Dmitriy</dc:creator>
  <dc:description/>
  <dc:language>en-US</dc:language>
  <cp:lastModifiedBy>1</cp:lastModifiedBy>
  <dcterms:modified xsi:type="dcterms:W3CDTF">2008-03-18T05:03:39Z</dcterms:modified>
  <cp:revision>8</cp:revision>
  <dc:subject/>
  <dc:title>Слайд 1</dc:title>
</cp:coreProperties>
</file>